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type.wav" ContentType="audio/x-wav"/>
  <Override PartName="/ppt/media/image6.jpeg" ContentType="image/jpeg"/>
  <Override PartName="/ppt/media/breeze.wav" ContentType="audio/x-wav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wind.wav" ContentType="audio/x-wav"/>
  <Override PartName="/ppt/media/image16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A070-99F2-4B09-A5BD-51EC38E22C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 - региональный компонен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СОШ № 61 г. Тюмени Валентина Александровна  Николай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D588-8A46-47DF-BE64-3DEEBB8BC80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аппл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я деревн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й дом родно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там ждет меня 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рь скорей отк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4D64-2248-4E5F-B53C-59AE3289D4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декоративные сувен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483-23F8-47C5-890C-BEFF86F9C6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– храм - собор и быт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ания, что режут гла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б ты ни бы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ы иль исповеданья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 объединяет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ты русский или мусульмани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ом мы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отчизна, и воспоминанья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буду ни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A1E6-EE77-4FA4-B679-6EBFC14918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4697-4EFD-4530-90A6-53362FB757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Фантазийного дерева из бисера «Бонса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древнее японское искусство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ть деревья с листочкам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о береза, сос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хта есть и с иголками е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 у нас из блестящего бисер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ычная крас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пусть ветер неистово серди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аган налетает и буря рев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дерево никогда не слом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усть оно не жив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 все же жив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7C52-9C57-4737-806E-B8F6F75E41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ведения домашнего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Формирование 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и региональные трад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интерьера жилых поме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празд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ряды, национальная оде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егиональные 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циональные  традиции сервировки ст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9C3F-BE14-4246-9935-FDE4BBC046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диции народов и националь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азднование «Масленницы» и «Проводы русской зим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1046-D7B3-4F2B-A8BE-50160B1436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едмет – лучше в школе нашей н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где можно разверну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оказать автор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национальный и региона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Мы  всегда  внедряем 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EE75-4714-42B9-9F99-BCAB9E6A86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ехн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Шить, кроить, готовить в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 доме делать все ис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тол гостям серв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как должно их принят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об этом на уроках мы стремимся все узн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C935-6D12-4618-8964-872AE7C420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Наша школа много националь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(18 национальностей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одних из  последних уроков по кулинарии – приготовление любимых блю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ывают о традициях разных народов, национальных праздниках и обр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8870-77DA-44E8-B3D0-826A574C9A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Рус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а рисовая с сухофру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Татар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8BF1-0BEA-4F99-8E58-7B03F18B65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збек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лов, ман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бхазская кухн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отварное мясо с острым соусо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008C-A0C2-4D52-BC4C-CDCEC74188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рмя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хлеб-лав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краи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639C-7464-41CC-B568-2A75256A9B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Грузинская кух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Азербайджанская кухня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юдо из мяса – чахохб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E945-B326-4491-97A0-0067C1D533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изготовление изделий с учетом национальных особенностей и тради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157D-3374-48B2-BDA3-01D84CC3B8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(аппликац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AD61-6781-4C34-B715-669EDDD8DC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E4C-15F4-44E5-9347-A8AEA3EC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DEF-1198-46D0-88AB-1160F1C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4B066-964A-4217-AE99-69C3DCC7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F3C36-F78B-4168-A8C3-12CD109F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B0538-B501-43EF-9EB9-D9E532CE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CCB08-057C-47F2-AEF8-6E01396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D68FD-7F5F-4EE2-A284-E47E9E2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DA7CC-0BB1-4F82-8A25-81D2AD13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1CA58-84C2-4CCC-B261-D4E54B3D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C1F7C-708B-4ABE-8C66-843E610D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9AFB6-7B0C-49EE-9C19-E3666BB0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48A55-D7DB-423A-8F2D-F729FE21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016-05F3-4375-874E-C165944D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32098-E1A4-44A7-9D64-D9E112AA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3CC5A-7488-49B7-B70D-32A2EFF1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7DF17-47BC-4DD9-8A7A-E51EC083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C11BF-18D0-4FA6-939E-F1AD5014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8B63C-0A27-4C31-855E-072BAB83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9FDEA-99DE-4174-BEE6-23D82BD8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5E26E-F168-498D-8F16-8104F9B6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7D2B9-D002-4674-B2D4-4BED9E8F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4AD9C-3E12-497A-B493-1689F62E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6353B-C54D-4AA3-BF9C-914FF273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EB2-7A22-4764-AD79-16D645AF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FA263-8E08-4EDF-90D6-14C18748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9425A-9AD1-48CF-A00C-2E0BBBCC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29126-1540-4EC3-A633-44357B9A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3DAE2-484E-47D4-9A66-427B8485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83FEF-D088-426B-A211-6BA55614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B2165-99DA-4085-845B-28D5DCA1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A357C-310B-4897-B6BB-D1513600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7C6E3-2FAA-4883-9FF6-5DAC1C13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B9DF8-B4D8-4FC9-B8FF-FCA3DEBD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9FF1F-5D55-43A8-94E6-87EF022D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67AD-C7CF-4DA6-A6E5-B1231F95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5C27D-3E05-41AA-9853-99977706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A8833-64CB-4621-A6B1-5CC8E983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7B43A-D927-4641-AD1A-823537EF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C3B03-D56B-4632-913F-3B5BA219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877B3-71AE-4D5C-BAD0-A547CBCE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203E8-CDF6-414E-98E8-8B980747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235CE-0FDD-41A2-BEEA-4A27C57C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360A1-DAE4-49ED-B1C8-D37684BA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5870F-F962-418C-8921-12831C14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C0871-F348-4510-B086-BA57BA73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06AE-2841-4112-B34A-A7AFA84F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5E68D-9C46-4EAA-9114-C8804229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901DB-45AF-478A-9C78-0DA9F19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7749B-A4AB-4F35-84A7-095C79C7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37D7C-5412-44D1-83F0-E7B1E81F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FD775-D4E5-4A96-AB0C-5640B78D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D040E-DA06-4847-BCA9-466B6131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8586A-8EEE-41E1-80D1-EEECF21B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8A20D-C939-4AC0-8FD0-3E213177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83A62-762E-47B0-B148-59EF6E18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87268-EB19-41CC-9686-C4B79D0C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945C-A9A8-4799-A2A4-0DFE3EB0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95120-EA24-48B0-9B67-0BFF5DBA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0CE5D-6662-4FB8-94E5-386CC89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6BDAB-E708-440D-BB61-BD916B6C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F0DEE-FDDC-43EA-8FF9-748F94B1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EDBD0-2A67-45E1-86BE-1DC756FF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C5319-3A07-46E4-87B6-94599F13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8F45B-C14F-4B89-B532-722CA05A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11621-BC93-41BA-AC83-9707E4EC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218BF-6754-49A9-B9A5-B455AB79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7A6E29-3966-4D9C-AAC1-CF66AB25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9B12-3D10-4BA8-92F8-2DBE51DC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677C6-D715-44BB-840A-E5339665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B2CB3-5BB8-4177-BCFA-1B7C2658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D7830-AC7B-47C3-B3C8-6529E97E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406A7-D9A5-46C4-A4FE-AAEA4BCB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22791-1B0C-4E70-B4A8-DECC44A0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59091-E8AE-4516-AEAC-FA439B10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88A72-0B78-41E2-B4E8-CB39E127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28165-7EDD-45C8-98B5-A0B396B9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60D32-8052-4B66-8D73-48B76E57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D0ED0-29DF-468F-9F52-13D68083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8BB5-8848-4191-965B-B1B70891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58317-43F5-47A6-AE5E-962383DB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2A7A9-1274-45ED-ACD9-F41A45BE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5577D-125B-4402-AA65-4B41E989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BCE76-529D-4790-8C34-0715F36B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38244-51E2-4995-B29F-C37FEF04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77F05-1621-412C-9101-8DFCDEA4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D2B74-BE14-4FF4-8BA0-1450E16E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96E3D-FD3A-479E-BC38-5548C807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86BEC-1313-4A57-954E-6BC245FD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3A68B4-3854-40EE-BE65-B9DC8FFD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793-F9AA-4C78-8126-A999C5E2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479E5-C45B-49C9-B110-1BD3D86E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873A1-00BD-4CD7-9ED5-AC8FC55D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27AB5-E0EF-4BBE-A0C5-42959005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8899B-9594-4EA6-9F92-6B5163E5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12E1A9-52D1-4E57-A059-AF61DBB3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BF93D-FED4-4BBA-8B11-06A709F7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7819E-17A5-475B-8F65-D8D0516E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9686F-7D6E-4D47-8E8A-5D72FF68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EEC46D-C12E-4D0D-88C1-DF48D706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79FD4-B119-4EDD-AB21-304C9C85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E4F9-5416-4050-B875-0F1895F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AD6AC-77F1-4721-BF4A-71D7EF07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BA08D-22F1-4674-B03F-772FD6D8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5CCF4-3301-40B5-81B8-E79B3A69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C1222-BE2A-4273-B618-DBD72100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A771C-F9FF-4826-A1AF-2E964645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BE016-C842-4F0D-B0E3-35AD6503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51806-D305-442D-9202-D2CDC40B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F5B86-9204-4908-A436-9B9940F9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96FB9-A0D3-401A-A44D-CA082937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B713B-00FD-4BCF-937D-F8F957F9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AB7-3349-4831-B56C-398DAB30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2B41-00E3-41AA-97D3-ECF78F28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C87CE-F8B8-4EFD-AD9A-244E7950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37EDE-B937-4BA5-A5BF-B529673E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5342A-64D7-4DD8-9FA1-116A0910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D44EA-AC6B-485D-A9BD-D02920EA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C2D88-DF88-4BED-AAAC-F230305F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13B6-8036-46E5-A7A8-5043E18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3652-C213-4D3A-A1C5-AEDD3A61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BC9D-388F-4CE3-9D47-57499452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FABD-06C1-4A01-82DE-68B5CD87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C610B-1A6D-4448-898C-D31217E7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570B-7539-4D45-89AD-E3B22416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297E-BC40-4703-9327-80697459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9814-32B5-4C88-8A59-5742BBF6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4EC1-17AE-4A62-AD74-9F9546FB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236-856A-406E-B0AD-2E834928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E46DC-40E8-458C-9AFC-AF23D70B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E177-480B-45EA-9010-D8783C84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992D-D27C-4BC8-8CE3-47A64B20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2EEF-ADA6-4109-B5B2-D9A8C456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DB65-6D6C-464B-AC8F-EEC5D9EC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2B47F-513A-4B8B-AE51-0293AA06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D46F-283D-4786-92A3-80BA3F7E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E469-AD06-49CB-AC9C-07768929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3994-954C-409F-ABD9-D0A808F6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88551-0580-4AC3-8896-4867732B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052-BAA6-4C48-88A8-6194239B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12A3-3ED5-44E5-835C-16669CD8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0A19C-3C6B-441E-8528-F956D567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4FEA-BC79-4D1E-B1AC-AEF428C6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DF790-A48F-44A6-8667-B4CCB969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25EA-71B6-442E-B231-B117B23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FE148-7311-48BF-9A40-ED8AC76B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226D5-CD74-4F80-897C-0920AAAE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02FB1-EE35-49FF-A34A-A22EFE92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B3CD0-C3B2-46E5-A88D-F1BBAAF1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5420D-13CC-4193-8F68-C45143DC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BA8-7F82-4BE5-8DCA-8E00C1ED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3CEFB-FD49-4AEB-AA93-711A2FA6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AC20-8FB9-4DF5-B43D-C109501C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5FEF-E843-4C4A-9E63-F2E5FAB1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EB681-7D51-4C9E-810B-13ABD488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BEE72-60B8-4326-BBE4-755E580E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E5B19-4B25-4360-A91D-DACD4D5C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0F02A-0316-4CB4-A8CB-47FC0077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7EC0C-368F-4192-ADB1-0E85753C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41886-C788-4EAD-820C-CBED04F7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82AE3-423D-47DC-B7A8-61E74083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CA6-9758-4768-833F-93DAF3AD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EB716-0227-4021-8272-B84F4D95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B8054-A1D2-4AB6-A637-C80CAC69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2E65A-58EC-413C-995C-0123B891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B253C-4992-44D1-A4E8-6E968D1E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D914E-C93E-45D2-82AD-EE9A0561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96DF-2534-400A-A9E2-8F3B3987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CF742-153B-49D5-9111-6375AB47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356F5-21D5-4765-A73B-6A2D95E1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1E1AF-72AE-416A-BE21-87C804B6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2596D-6E2A-4F70-B988-382C5A7A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433-7716-48AB-BC18-4F8636F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560F7-A232-44FA-887E-E38C61C9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5C501-0B53-4AE1-B8CA-D239E011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4008E-BADC-47FF-BE6A-15A73436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8ED6B-E9AA-41AF-9DAC-BE7BFFF7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88DB0-6C05-484E-A604-01DE6B1F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80EE5-20E5-4E20-A25B-51AC8A53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204EE-D0EA-45C2-9DA1-F3CFFEDC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808B9-C291-4320-BEEA-F47D6945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D8F46-C6B5-43E7-886F-5CA0CE47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572EE-87E6-41C8-9767-51F0BD6C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3C9-79F0-4253-8432-85026463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32570-A99B-47DB-9456-A554033A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9B9AF-9F50-41E3-854F-FDE2B8F0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9553F-A8B7-4D4C-BFCA-36A6A97D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530F9-E43A-4C54-9034-1927D319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EAA7A-2799-4107-B12F-2CB0B150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B3A1C-3A36-4714-8C9A-E9E56FA0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049ED-7B7C-4B40-95B2-6AB067A6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A1456-256F-4BAC-BC1A-9C2E5F8F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928CB-68D5-4C67-BFD4-AAB53B70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7F6E0-3EAC-495E-B5B2-A4F3DF95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61F-7087-4A77-A4D1-37341FBA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7A65B-9889-4F15-BF8C-779FC430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DEBBD-BEC4-4D1D-ABF8-88FE717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2EB63-7F54-4F67-BA6F-4DA181FF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939BF-E215-4781-9329-4198A959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38CBD-68E0-46B9-A4ED-7AF58CF4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FE88B-F7A3-4AC3-9C9D-4452A461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B1EC7-1C1D-4731-80EB-2FC91BC4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304F5-878A-4979-9A21-6D9C5D8C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32802-8DAD-45B9-975A-70CE0C47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07FD7-8A8E-427E-A638-0C1C9256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75C6-E098-49D5-A135-62F8CA0579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4588-CBB0-4D7F-BE6A-46DDCF18F4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5F99-4BC8-407C-B4F8-30C78078B0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6E8A-E6D2-4A57-9474-4444817BD2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032-8665-404B-9633-DC22F52E19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EB48-7DAA-4BBB-8AB4-4D5A839356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4C71-E663-440F-B61A-389844A404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1C98-1363-4ABA-BBFA-A17110DAAA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8F76-1215-4922-80E4-ED9D774370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BA98-5351-4373-A25F-AA89A0C8C7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6EFE-269A-4B47-BDEC-AB12A39AFC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F91D-5F53-4A36-87EB-15300EDB35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1D17-C75A-4D4A-9C6C-DB923432B3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586A-ABF2-48D2-8CCB-66F5C37BC8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F73B-CC7E-40B6-9EBC-5F04C2BB5A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C6D1-CE12-49CD-9DE7-75AAE243E8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15D5-5B87-4F1F-825B-684D2EB8BE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ционально - региональный компонент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 уроках технолог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74484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МОУ СОШ № 61 г. Тюмени Валентина Александровна  Николайч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6" name="~PP23928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0072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аппликация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я деревня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й дом родной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Бабушка там ждет меня -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верь скорей открой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2" name="Picture 10" descr="DSC01431"/>
          <p:cNvPicPr/>
          <p:nvPr/>
        </p:nvPicPr>
        <p:blipFill>
          <a:blip r:embed="rId1"/>
          <a:srcRect l="15502" t="0" r="11073" b="0"/>
          <a:stretch/>
        </p:blipFill>
        <p:spPr>
          <a:xfrm>
            <a:off x="5219640" y="0"/>
            <a:ext cx="3924360" cy="3357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" descr="DSC01429"/>
          <p:cNvPicPr/>
          <p:nvPr/>
        </p:nvPicPr>
        <p:blipFill>
          <a:blip r:embed="rId2"/>
          <a:stretch/>
        </p:blipFill>
        <p:spPr>
          <a:xfrm>
            <a:off x="179280" y="2997360"/>
            <a:ext cx="5688000" cy="3860640"/>
          </a:xfrm>
          <a:prstGeom prst="rect">
            <a:avLst/>
          </a:prstGeom>
          <a:ln w="0">
            <a:noFill/>
          </a:ln>
        </p:spPr>
      </p:pic>
      <p:pic>
        <p:nvPicPr>
          <p:cNvPr id="754" name="Национально региональный26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608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декоративные сувениры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7" name="Picture 9" descr="DSC01437"/>
          <p:cNvPicPr/>
          <p:nvPr/>
        </p:nvPicPr>
        <p:blipFill>
          <a:blip r:embed="rId1"/>
          <a:stretch/>
        </p:blipFill>
        <p:spPr>
          <a:xfrm>
            <a:off x="5614920" y="3618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4" descr="DSC01105"/>
          <p:cNvPicPr/>
          <p:nvPr/>
        </p:nvPicPr>
        <p:blipFill>
          <a:blip r:embed="rId2"/>
          <a:stretch/>
        </p:blipFill>
        <p:spPr>
          <a:xfrm>
            <a:off x="4643280" y="189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Фото025"/>
          <p:cNvPicPr/>
          <p:nvPr/>
        </p:nvPicPr>
        <p:blipFill>
          <a:blip r:embed="rId3"/>
          <a:stretch/>
        </p:blipFill>
        <p:spPr>
          <a:xfrm>
            <a:off x="0" y="1601640"/>
            <a:ext cx="4537080" cy="5256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6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рковь – храм - собор и быт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ания, что режут глаз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б ты ни бы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ы иль исповеданья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 объединяет н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дь ты русский или мусульман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ядом мы всегд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м, отчизна, и воспоминанья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забуду никог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3" name="Picture 13" descr="DSC01427"/>
          <p:cNvPicPr/>
          <p:nvPr/>
        </p:nvPicPr>
        <p:blipFill>
          <a:blip r:embed="rId1"/>
          <a:srcRect l="4921" t="5536" r="12303" b="5536"/>
          <a:stretch/>
        </p:blipFill>
        <p:spPr>
          <a:xfrm>
            <a:off x="4211640" y="1341360"/>
            <a:ext cx="4681440" cy="5256360"/>
          </a:xfrm>
          <a:prstGeom prst="rect">
            <a:avLst/>
          </a:prstGeom>
          <a:ln w="0">
            <a:noFill/>
          </a:ln>
        </p:spPr>
      </p:pic>
      <p:sp>
        <p:nvSpPr>
          <p:cNvPr id="7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6" name="Picture 7" descr="DSC01422"/>
          <p:cNvPicPr/>
          <p:nvPr/>
        </p:nvPicPr>
        <p:blipFill>
          <a:blip r:embed="rId1"/>
          <a:srcRect l="4429" t="0" r="0" b="0"/>
          <a:stretch/>
        </p:blipFill>
        <p:spPr>
          <a:xfrm>
            <a:off x="112680" y="1700280"/>
            <a:ext cx="4890960" cy="4465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DSC01424"/>
          <p:cNvPicPr/>
          <p:nvPr/>
        </p:nvPicPr>
        <p:blipFill>
          <a:blip r:embed="rId2"/>
          <a:stretch/>
        </p:blipFill>
        <p:spPr>
          <a:xfrm>
            <a:off x="5219640" y="1413000"/>
            <a:ext cx="3745080" cy="2663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" descr="DSC01417"/>
          <p:cNvPicPr/>
          <p:nvPr/>
        </p:nvPicPr>
        <p:blipFill>
          <a:blip r:embed="rId3"/>
          <a:srcRect l="0" t="5906" r="4429" b="0"/>
          <a:stretch/>
        </p:blipFill>
        <p:spPr>
          <a:xfrm>
            <a:off x="5346720" y="4232160"/>
            <a:ext cx="3797280" cy="2436840"/>
          </a:xfrm>
          <a:prstGeom prst="rect">
            <a:avLst/>
          </a:prstGeom>
          <a:ln w="0">
            <a:noFill/>
          </a:ln>
        </p:spPr>
      </p:pic>
      <p:sp>
        <p:nvSpPr>
          <p:cNvPr id="7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роектная деятельность учащихс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700000" y="765000"/>
            <a:ext cx="4032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Фантазийного дерева из бисера «Бонса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древнее японское искусство)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Есть деревья с листочками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о береза, сос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ихта есть и с иголками елоч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 у нас из блестящего бисера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обычная красо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пусть ветер неистово серди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раган налетает и буря рев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Это дерево никогда не сломае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усть оно не живо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о все же живет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2" name="Содержимое 6" descr="Фото019.jpg"/>
          <p:cNvPicPr/>
          <p:nvPr/>
        </p:nvPicPr>
        <p:blipFill>
          <a:blip r:embed="rId1"/>
          <a:stretch/>
        </p:blipFill>
        <p:spPr>
          <a:xfrm>
            <a:off x="179280" y="119700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773" name="Содержимое 7" descr="Фото018.jpg"/>
          <p:cNvPicPr/>
          <p:nvPr/>
        </p:nvPicPr>
        <p:blipFill>
          <a:blip r:embed="rId2"/>
          <a:stretch/>
        </p:blipFill>
        <p:spPr>
          <a:xfrm>
            <a:off x="6516720" y="3573360"/>
            <a:ext cx="2376360" cy="3132360"/>
          </a:xfrm>
          <a:prstGeom prst="rect">
            <a:avLst/>
          </a:prstGeom>
          <a:ln w="0">
            <a:noFill/>
          </a:ln>
        </p:spPr>
      </p:pic>
      <p:sp>
        <p:nvSpPr>
          <p:cNvPr id="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ехнология ведения домашнего хозяйств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338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Формирование культу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и региональные традиц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 оформлении интерьера жилых помещ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праздни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обряды, национальная одеж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Региональные 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циональные  традиции сервировки стол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7" name="Picture 0" descr="люлька"/>
          <p:cNvPicPr/>
          <p:nvPr/>
        </p:nvPicPr>
        <p:blipFill>
          <a:blip r:embed="rId1"/>
          <a:stretch/>
        </p:blipFill>
        <p:spPr>
          <a:xfrm>
            <a:off x="4067280" y="907920"/>
            <a:ext cx="4608360" cy="283716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" descr="комната"/>
          <p:cNvPicPr/>
          <p:nvPr/>
        </p:nvPicPr>
        <p:blipFill>
          <a:blip r:embed="rId2"/>
          <a:stretch/>
        </p:blipFill>
        <p:spPr>
          <a:xfrm>
            <a:off x="4067280" y="3933720"/>
            <a:ext cx="4681440" cy="2924280"/>
          </a:xfrm>
          <a:prstGeom prst="rect">
            <a:avLst/>
          </a:prstGeom>
          <a:ln w="0">
            <a:noFill/>
          </a:ln>
        </p:spPr>
      </p:pic>
      <p:sp>
        <p:nvSpPr>
          <p:cNvPr id="7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радиции народов и национальносте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59280" y="691920"/>
            <a:ext cx="6084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Празднование «Масленницы» и «Проводы русской зимы»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2" name="Рисунок 2" descr="D:\Documents\8-В\торговля 2.jpg"/>
          <p:cNvPicPr/>
          <p:nvPr/>
        </p:nvPicPr>
        <p:blipFill>
          <a:blip r:embed="rId1"/>
          <a:srcRect l="12114" t="0" r="0" b="0"/>
          <a:stretch/>
        </p:blipFill>
        <p:spPr>
          <a:xfrm>
            <a:off x="179280" y="1844640"/>
            <a:ext cx="3227400" cy="4861080"/>
          </a:xfrm>
          <a:prstGeom prst="rect">
            <a:avLst/>
          </a:prstGeom>
          <a:ln w="0">
            <a:noFill/>
          </a:ln>
        </p:spPr>
      </p:pic>
      <p:pic>
        <p:nvPicPr>
          <p:cNvPr id="783" name="Рисунок 1" descr="D:\Documents\8-В\чучело пасхи.jpg"/>
          <p:cNvPicPr/>
          <p:nvPr/>
        </p:nvPicPr>
        <p:blipFill>
          <a:blip r:embed="rId2"/>
          <a:srcRect l="24160" t="0" r="0" b="16159"/>
          <a:stretch/>
        </p:blipFill>
        <p:spPr>
          <a:xfrm>
            <a:off x="3203640" y="3114720"/>
            <a:ext cx="2349360" cy="37432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D:\Documents\8-В\торг. 2.jpg"/>
          <p:cNvPicPr/>
          <p:nvPr/>
        </p:nvPicPr>
        <p:blipFill>
          <a:blip r:embed="rId3"/>
          <a:srcRect l="9431" t="0" r="0" b="0"/>
          <a:stretch/>
        </p:blipFill>
        <p:spPr>
          <a:xfrm>
            <a:off x="5580000" y="2708280"/>
            <a:ext cx="3384720" cy="414972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ХН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редмет – лучше в школе нашей не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Вот где можно развернутьс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оказать автор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И национальный и региона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Мы  всегда  внедряем  компон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35280" y="188640"/>
            <a:ext cx="5051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редме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– Технология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3394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Шить, кроить, готовить в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 доме делать все ис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стол гостям сервир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и как должно их принять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от об этом на уроках мы стремимся все узн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0" name="Picture 8" descr="стол экибана"/>
          <p:cNvPicPr/>
          <p:nvPr/>
        </p:nvPicPr>
        <p:blipFill>
          <a:blip r:embed="rId1"/>
          <a:stretch/>
        </p:blipFill>
        <p:spPr>
          <a:xfrm>
            <a:off x="3924360" y="1268280"/>
            <a:ext cx="5219640" cy="4753080"/>
          </a:xfrm>
          <a:prstGeom prst="rect">
            <a:avLst/>
          </a:prstGeom>
          <a:ln w="0">
            <a:noFill/>
          </a:ln>
        </p:spPr>
      </p:pic>
      <p:pic>
        <p:nvPicPr>
          <p:cNvPr id="711" name="~PP2392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327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867280" y="333000"/>
            <a:ext cx="309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Наша школа много националь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(18 национальносте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 одних из  последних уроков по кулинарии – приготовление любимых блю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зывают о традициях разных народов, национальных праздниках и обр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5" name="Picture 10" descr="Изображение3в 001"/>
          <p:cNvPicPr/>
          <p:nvPr/>
        </p:nvPicPr>
        <p:blipFill>
          <a:blip r:embed="rId1"/>
          <a:srcRect l="0" t="7395" r="0" b="7352"/>
          <a:stretch/>
        </p:blipFill>
        <p:spPr>
          <a:xfrm>
            <a:off x="0" y="1700280"/>
            <a:ext cx="5867280" cy="4392720"/>
          </a:xfrm>
          <a:prstGeom prst="rect">
            <a:avLst/>
          </a:prstGeom>
          <a:ln w="0">
            <a:noFill/>
          </a:ln>
        </p:spPr>
      </p:pic>
      <p:pic>
        <p:nvPicPr>
          <p:cNvPr id="716" name="Национально региональный26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Рус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ша рисовая с сухофрук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Татар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0" name="Picture 11" descr="русская, каша"/>
          <p:cNvPicPr/>
          <p:nvPr/>
        </p:nvPicPr>
        <p:blipFill>
          <a:blip r:embed="rId1"/>
          <a:stretch/>
        </p:blipFill>
        <p:spPr>
          <a:xfrm>
            <a:off x="4500720" y="836640"/>
            <a:ext cx="4319280" cy="26636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4" descr="чак-чак"/>
          <p:cNvPicPr/>
          <p:nvPr/>
        </p:nvPicPr>
        <p:blipFill>
          <a:blip r:embed="rId2"/>
          <a:stretch/>
        </p:blipFill>
        <p:spPr>
          <a:xfrm>
            <a:off x="4500720" y="3860640"/>
            <a:ext cx="4248000" cy="2737080"/>
          </a:xfrm>
          <a:prstGeom prst="rect">
            <a:avLst/>
          </a:prstGeom>
          <a:ln w="0">
            <a:noFill/>
          </a:ln>
        </p:spPr>
      </p:pic>
      <p:pic>
        <p:nvPicPr>
          <p:cNvPr id="722" name="Национально региональный262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671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47960" y="333000"/>
            <a:ext cx="42447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збек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лов, ман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бхазская кух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отварное мясо с острым соусо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6" name="Picture 8" descr="плов"/>
          <p:cNvPicPr/>
          <p:nvPr/>
        </p:nvPicPr>
        <p:blipFill>
          <a:blip r:embed="rId1"/>
          <a:stretch/>
        </p:blipFill>
        <p:spPr>
          <a:xfrm>
            <a:off x="826920" y="907920"/>
            <a:ext cx="3313440" cy="24498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9" descr="абхазия"/>
          <p:cNvPicPr/>
          <p:nvPr/>
        </p:nvPicPr>
        <p:blipFill>
          <a:blip r:embed="rId2"/>
          <a:stretch/>
        </p:blipFill>
        <p:spPr>
          <a:xfrm>
            <a:off x="826920" y="3789360"/>
            <a:ext cx="3313440" cy="2519280"/>
          </a:xfrm>
          <a:prstGeom prst="rect">
            <a:avLst/>
          </a:prstGeom>
          <a:ln w="0">
            <a:noFill/>
          </a:ln>
        </p:spPr>
      </p:pic>
      <p:pic>
        <p:nvPicPr>
          <p:cNvPr id="728" name="Национально региональный263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316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рмя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ый хлеб-лава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кра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2" name="Picture 9" descr="б-щ"/>
          <p:cNvPicPr/>
          <p:nvPr/>
        </p:nvPicPr>
        <p:blipFill>
          <a:blip r:embed="rId1"/>
          <a:stretch/>
        </p:blipFill>
        <p:spPr>
          <a:xfrm>
            <a:off x="611280" y="393372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шаш"/>
          <p:cNvPicPr/>
          <p:nvPr/>
        </p:nvPicPr>
        <p:blipFill>
          <a:blip r:embed="rId2"/>
          <a:stretch/>
        </p:blipFill>
        <p:spPr>
          <a:xfrm>
            <a:off x="611280" y="836640"/>
            <a:ext cx="3529080" cy="2736720"/>
          </a:xfrm>
          <a:prstGeom prst="rect">
            <a:avLst/>
          </a:prstGeom>
          <a:ln w="0">
            <a:noFill/>
          </a:ln>
        </p:spPr>
      </p:pic>
      <p:pic>
        <p:nvPicPr>
          <p:cNvPr id="734" name="Национально региональный264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0" y="189000"/>
            <a:ext cx="4114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42447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Груз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зербайджанская кухн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юдо из мяса – чахохби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8" name="Picture 8" descr="чахохбили"/>
          <p:cNvPicPr/>
          <p:nvPr/>
        </p:nvPicPr>
        <p:blipFill>
          <a:blip r:embed="rId1"/>
          <a:stretch/>
        </p:blipFill>
        <p:spPr>
          <a:xfrm>
            <a:off x="4643280" y="4114800"/>
            <a:ext cx="3961080" cy="24098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борщ"/>
          <p:cNvPicPr/>
          <p:nvPr/>
        </p:nvPicPr>
        <p:blipFill>
          <a:blip r:embed="rId2"/>
          <a:stretch/>
        </p:blipFill>
        <p:spPr>
          <a:xfrm>
            <a:off x="4643280" y="1052640"/>
            <a:ext cx="3961080" cy="2592360"/>
          </a:xfrm>
          <a:prstGeom prst="rect">
            <a:avLst/>
          </a:prstGeom>
          <a:ln w="0">
            <a:noFill/>
          </a:ln>
        </p:spPr>
      </p:pic>
      <p:pic>
        <p:nvPicPr>
          <p:cNvPr id="740" name="Национально региональный265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изготовление изделий с учетом национальных особенностей и традиций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3" name="Picture 2" descr="D:\Documents\мисс школьница\DSC00260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5589720"/>
          </a:xfrm>
          <a:prstGeom prst="rect">
            <a:avLst/>
          </a:prstGeom>
          <a:ln w="0">
            <a:noFill/>
          </a:ln>
        </p:spPr>
      </p:pic>
      <p:pic>
        <p:nvPicPr>
          <p:cNvPr id="744" name="Национально региональный25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аппликация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46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8" name="Picture 5" descr="DSC01433"/>
          <p:cNvPicPr/>
          <p:nvPr/>
        </p:nvPicPr>
        <p:blipFill>
          <a:blip r:embed="rId1"/>
          <a:srcRect l="17717" t="0" r="2215" b="0"/>
          <a:stretch/>
        </p:blipFill>
        <p:spPr>
          <a:xfrm>
            <a:off x="4648320" y="1844640"/>
            <a:ext cx="4495680" cy="4176720"/>
          </a:xfrm>
          <a:prstGeom prst="rect">
            <a:avLst/>
          </a:prstGeom>
          <a:ln w="0">
            <a:noFill/>
          </a:ln>
        </p:spPr>
      </p:pic>
      <p:pic>
        <p:nvPicPr>
          <p:cNvPr id="749" name="Национально региональный27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09:49Z</dcterms:created>
  <dc:creator>XP</dc:creator>
  <dc:description/>
  <dc:language>en-US</dc:language>
  <cp:lastModifiedBy>LEGION</cp:lastModifiedBy>
  <dcterms:modified xsi:type="dcterms:W3CDTF">2015-03-31T08:33:13Z</dcterms:modified>
  <cp:revision>120</cp:revision>
  <dc:subject/>
  <dc:title>Слайд 1</dc:title>
</cp:coreProperties>
</file>